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3066-887B-41EB-9DEB-ACA75EE014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6E10-5E4D-454A-AF66-AED041AA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560D-3D95-4192-9A39-D0CC66F5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BE6D-CDE1-4D35-8E87-1C71F22276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A590-5424-4D65-982E-AE96F509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ED99-A192-4F41-B269-D34B8D1C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CDE2-9F24-493B-A4DF-D660564E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7397-5169-458B-A432-0B44B3D7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3899-9A8E-402B-92A0-CC46CE70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1422-5CC3-46D6-BF58-64B36A63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9349-F21B-41CA-BE4D-509BCB8B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21D6-0A1D-4D01-B2AE-5C45F5A4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C76B-6D64-4CA6-999B-E7F623AFCA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6924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第十二节  呕血与黑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85800" y="457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二指肠降部溃疡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3" descr="8"/>
          <p:cNvPicPr/>
          <p:nvPr/>
        </p:nvPicPr>
        <p:blipFill>
          <a:blip r:embed="rId1"/>
          <a:stretch/>
        </p:blipFill>
        <p:spPr>
          <a:xfrm>
            <a:off x="685800" y="1828800"/>
            <a:ext cx="3828960" cy="346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8"/>
          <p:cNvPicPr/>
          <p:nvPr/>
        </p:nvPicPr>
        <p:blipFill>
          <a:blip r:embed="rId2"/>
          <a:stretch/>
        </p:blipFill>
        <p:spPr>
          <a:xfrm>
            <a:off x="4643280" y="1828800"/>
            <a:ext cx="3886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15"/>
          <p:cNvPicPr/>
          <p:nvPr/>
        </p:nvPicPr>
        <p:blipFill>
          <a:blip r:embed="rId1"/>
          <a:stretch/>
        </p:blipFill>
        <p:spPr>
          <a:xfrm>
            <a:off x="1415880" y="0"/>
            <a:ext cx="638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56160" y="260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管静脉曲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3" descr="J:\xhnj\xiao\4-5-30a.jpg"/>
          <p:cNvPicPr/>
          <p:nvPr/>
        </p:nvPicPr>
        <p:blipFill>
          <a:blip r:embed="rId1"/>
          <a:stretch/>
        </p:blipFill>
        <p:spPr>
          <a:xfrm>
            <a:off x="76320" y="1700280"/>
            <a:ext cx="4495680" cy="41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图片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75320" y="1700280"/>
            <a:ext cx="4360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道出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4" descr="胆道出血"/>
          <p:cNvPicPr/>
          <p:nvPr/>
        </p:nvPicPr>
        <p:blipFill>
          <a:blip r:embed="rId1"/>
          <a:stretch/>
        </p:blipFill>
        <p:spPr>
          <a:xfrm>
            <a:off x="317520" y="1403280"/>
            <a:ext cx="4444920" cy="480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st术后出血"/>
          <p:cNvPicPr/>
          <p:nvPr/>
        </p:nvPicPr>
        <p:blipFill>
          <a:blip r:embed="rId2"/>
          <a:stretch/>
        </p:blipFill>
        <p:spPr>
          <a:xfrm>
            <a:off x="4716360" y="1628640"/>
            <a:ext cx="40132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68360" y="1557360"/>
            <a:ext cx="8136000" cy="4535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过程：</a:t>
            </a: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前兆，呕出血性胃内容物，继而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部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上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</a:t>
            </a:r>
            <a:r>
              <a:rPr b="0" lang="en-US" sz="2800" spc="-1" strike="noStrike">
                <a:solidFill>
                  <a:srgbClr val="969696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下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量及在胃内停留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大，时间短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鲜红色，紫红色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小，时间长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咖啡色，稠厚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zhd21"/>
          <p:cNvPicPr/>
          <p:nvPr/>
        </p:nvPicPr>
        <p:blipFill>
          <a:blip r:embed="rId1"/>
          <a:srcRect l="10063" t="32362" r="8534" b="26780"/>
          <a:stretch/>
        </p:blipFill>
        <p:spPr>
          <a:xfrm>
            <a:off x="250920" y="126828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2" descr="zhd22"/>
          <p:cNvPicPr/>
          <p:nvPr/>
        </p:nvPicPr>
        <p:blipFill>
          <a:blip r:embed="rId1"/>
          <a:srcRect l="7518" t="31079" r="6360" b="22906"/>
          <a:stretch/>
        </p:blipFill>
        <p:spPr>
          <a:xfrm>
            <a:off x="250920" y="1557360"/>
            <a:ext cx="8642160" cy="49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4000" y="3141720"/>
            <a:ext cx="158400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-1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4292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5300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43280" y="3429000"/>
            <a:ext cx="1800000" cy="3988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（头晕，畏寒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咯血与呕血的鉴别诊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268280"/>
          <a:ext cx="8713800" cy="4740480"/>
        </p:xfrm>
        <a:graphic>
          <a:graphicData uri="http://schemas.openxmlformats.org/drawingml/2006/table">
            <a:tbl>
              <a:tblPr/>
              <a:tblGrid>
                <a:gridCol w="1800360"/>
                <a:gridCol w="3313080"/>
                <a:gridCol w="36003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咯    血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呕    血</a:t>
                      </a:r>
                      <a:r>
                        <a:rPr b="0" lang="zh-CN" sz="1800" spc="-1" strike="noStrike">
                          <a:solidFill>
                            <a:srgbClr val="996633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病因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肺结核、支气管扩张症、肺炎、肺脓肿、肺癌、心脏病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消化性渍病、肝硬化、急性糜烂出血性胃炎、胆道出血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前症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喉部痒感、胸闻、咳嗽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上腹不适、恶心、呕吐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方式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咯出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呕出，可为喷射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棕黑、暗红、有时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中混有物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痰、泡沫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食物残渣、胃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酸碱反应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碱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酸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黑便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除非咽下，否则没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有，可为柏油样便，呕血停止后仍持续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后痰性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常有血痰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无痰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黑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呕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黑便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呕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黑便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呕血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黑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相关疾病史及诱发因素（饮食、药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咯血鉴别、黑便（食物、药物），并排除相关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点：次数、量、颜色、性状及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对功能性健康型态的影响：循环血量不足、情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组织灌注量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活动无耐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恐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有误吸的危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焦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219320"/>
            <a:ext cx="662940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1413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呕血：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屈氏韧带以上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消化道出血，血液经口腔呕出的现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（上消化道出血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黑便：上消化道出血时血液经肠道排出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色黑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而称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柏油便（上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68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03360" y="369720"/>
            <a:ext cx="5943600" cy="3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溃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eso-ul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40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胃角切部溃疡（A1期）"/>
          <p:cNvPicPr/>
          <p:nvPr/>
        </p:nvPicPr>
        <p:blipFill>
          <a:blip r:embed="rId3"/>
          <a:stretch/>
        </p:blipFill>
        <p:spPr>
          <a:xfrm>
            <a:off x="4716360" y="148428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413000"/>
            <a:ext cx="8209080" cy="4464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4" descr="ESO_TUMOR_1G2_150_16930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396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ESO_CA_1_150"/>
          <p:cNvPicPr/>
          <p:nvPr/>
        </p:nvPicPr>
        <p:blipFill>
          <a:blip r:embed="rId2"/>
          <a:stretch/>
        </p:blipFill>
        <p:spPr>
          <a:xfrm>
            <a:off x="457200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4000" y="1557360"/>
            <a:ext cx="8208720" cy="4248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7:59:02Z</dcterms:modified>
  <cp:revision>106</cp:revision>
  <dc:subject/>
  <dc:title>咯　血 (hemoptysis)</dc:title>
</cp:coreProperties>
</file>